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media/WHOOSH.WAV" ContentType="audio/x-wav"/>
  <Override PartName="/ppt/media/PROJCTOR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025-BB53-432B-B66E-BF4A150A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CF7-3316-4291-880F-CC4CBD19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2BA-0F9F-4865-89D8-44296D0F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A5A-A192-4216-B4BE-F7F7E90A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D5B0-CD1C-475A-9568-607C0C7C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EF7F-C9CB-4924-BFB5-75EC2D43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B0C4-98EA-4934-BF8E-CBA4D3C6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FC7B-8883-433D-AE6E-17C5C503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C513-D414-4850-8362-642CAD27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A9C9-32E9-4420-B7BB-D96A0521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B0DF-55FC-48D0-A65D-900909B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30C-40CE-487B-AFD9-96EE0B0F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704A-FC15-4FAA-B758-285E77E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6B6E-15F0-4880-A052-8A9D746A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C7D7-B652-46AD-BD8A-B9A52241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8FDE-08A7-4B6A-8E9D-177C7D4C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9F9E-35F7-413D-BA10-9C9A603B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D79-BDB7-464A-B384-3D0E1B78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BCB-0D1B-4DD4-A3E1-A70A20AD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6E5-1FEA-4E2B-8416-ADA187DB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1AF-5FDF-4ACE-B647-11307767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408-6A65-44CC-9787-6EF90B0B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E07-F69B-43E6-9124-846A81E4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45B-0545-465C-BC63-1F91DEE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dbb7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9BB4-93B3-4804-A5B1-80C0572E91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dbb7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3EF5-FA5E-41CD-B624-B76F049DE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PROJCTOR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SIMULTANEOUS EQUATIONS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66880" y="1828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Try questions 1 to 4 on the worksheet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Substitution Method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13716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n be used in any situation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124080" y="1981080"/>
                <a:ext cx="3581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68480" y="2743200"/>
                <a:ext cx="39895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133720" y="3657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abel the equations (1) and 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2057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2819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3657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1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79720" y="42670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hoose one equation and rewrite the equation expressing one variable in terms of the other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601992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From (1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191120" y="5991120"/>
                <a:ext cx="251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7086600" y="594360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(1’ 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320" y="152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544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4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68580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ubstitute the new equation into the other equation in this case equation 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181480" y="228600"/>
                <a:ext cx="2667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181480" y="914400"/>
                <a:ext cx="27702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82296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495680" y="1676520"/>
                <a:ext cx="3200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28600" y="32148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olve the equation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462560" y="2438280"/>
                <a:ext cx="3267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62480" y="2975040"/>
                <a:ext cx="2433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96000" y="3508200"/>
                <a:ext cx="21286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419880" y="3962520"/>
                <a:ext cx="1243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4068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5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45864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ubstitute this value back into (1’ 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48320" y="4727520"/>
                <a:ext cx="19782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8153280" y="2588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’ 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58672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1, 2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1676520"/>
            <a:ext cx="365760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429000"/>
            <a:ext cx="2590920" cy="10666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 Narrow"/>
              </a:rPr>
              <a:t>Another example</a:t>
            </a:r>
            <a:endParaRPr b="1" lang="en-US" sz="3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31240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abel the equations (1) and 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0120" y="13208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21477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3124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1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824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79720" y="3886200"/>
            <a:ext cx="6629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quation (2) already expresses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n terms of </a:t>
            </a:r>
            <a:r>
              <a:rPr b="0" i="1" lang="en-US" sz="3000" spc="-1" strike="noStrike">
                <a:solidFill>
                  <a:srgbClr val="0099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03640" y="1628640"/>
                <a:ext cx="3816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320" y="380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362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4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83664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ubstitute equation (2) into equation 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152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379760" y="1676520"/>
                <a:ext cx="3434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28600" y="29718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olve the equation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746600" y="2438280"/>
                <a:ext cx="3100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92600" y="2975040"/>
                <a:ext cx="2332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381720" y="3508200"/>
                <a:ext cx="1428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605640" y="3962520"/>
                <a:ext cx="1243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4068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5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45864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ubstitute this value back into (2 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711840" y="4648320"/>
                <a:ext cx="21272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3581280" y="58672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3, 1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952880" y="870120"/>
                <a:ext cx="3048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8229600" y="8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1600200"/>
            <a:ext cx="365760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372360" y="260280"/>
                <a:ext cx="1873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A more difficult example</a:t>
            </a: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209680" y="990720"/>
                <a:ext cx="53784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76320" y="1447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Using elimination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514600"/>
            <a:ext cx="304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Multiply (1) by 3 and (2) by 4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452760" y="2635200"/>
            <a:ext cx="3481560" cy="565200"/>
            <a:chOff x="3452760" y="2635200"/>
            <a:chExt cx="3481560" cy="56520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452760" y="2736720"/>
                  <a:ext cx="230364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"/>
            <p:cNvSpPr/>
            <p:nvPr/>
          </p:nvSpPr>
          <p:spPr>
            <a:xfrm>
              <a:off x="6172200" y="263520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1’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733920" y="1752480"/>
            <a:ext cx="3209760" cy="997200"/>
            <a:chOff x="3733920" y="1752480"/>
            <a:chExt cx="3209760" cy="997200"/>
          </a:xfrm>
        </p:grpSpPr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746520" y="1828800"/>
                  <a:ext cx="204480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6172200" y="17524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1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1560" y="216540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2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3733920" y="2286000"/>
                  <a:ext cx="186696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"/>
          <p:cNvGrpSpPr/>
          <p:nvPr/>
        </p:nvGrpSpPr>
        <p:grpSpPr>
          <a:xfrm>
            <a:off x="3581280" y="3092400"/>
            <a:ext cx="3429000" cy="565200"/>
            <a:chOff x="3581280" y="3092400"/>
            <a:chExt cx="3429000" cy="565200"/>
          </a:xfrm>
        </p:grpSpPr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581280" y="3193920"/>
                  <a:ext cx="198432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"/>
            <p:cNvSpPr/>
            <p:nvPr/>
          </p:nvSpPr>
          <p:spPr>
            <a:xfrm>
              <a:off x="6248520" y="3092400"/>
              <a:ext cx="76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2’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048120" y="3657600"/>
            <a:ext cx="38862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3581280"/>
            <a:ext cx="236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tract (2’) from (1’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733920" y="3714840"/>
                <a:ext cx="22096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95680" y="4065480"/>
                <a:ext cx="11876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57200" y="4724280"/>
            <a:ext cx="2895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into (1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276720" y="4718160"/>
                <a:ext cx="24526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114800" y="5181480"/>
                <a:ext cx="22543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425840" y="5562720"/>
                <a:ext cx="1289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124080" y="60958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-4, -2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2743200"/>
            <a:ext cx="2743200" cy="3808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4114800"/>
            <a:ext cx="2743200" cy="3808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9880" y="5638680"/>
            <a:ext cx="2743200" cy="38124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057400" y="228600"/>
                <a:ext cx="5378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228600" y="609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Using substitution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2920" y="1828800"/>
            <a:ext cx="190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From (2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648320" y="762120"/>
            <a:ext cx="3209760" cy="996480"/>
            <a:chOff x="4648320" y="762120"/>
            <a:chExt cx="3209760" cy="99648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4660920" y="838080"/>
                  <a:ext cx="20448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086600" y="76212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1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95960" y="11746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2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4648320" y="1295280"/>
                  <a:ext cx="186696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3" name=""/>
          <p:cNvSpPr/>
          <p:nvPr/>
        </p:nvSpPr>
        <p:spPr>
          <a:xfrm>
            <a:off x="380880" y="2514600"/>
            <a:ext cx="2895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(2’) into (1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429000" y="2362320"/>
                <a:ext cx="3328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342040" y="3886200"/>
                <a:ext cx="1973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410080" y="4343400"/>
                <a:ext cx="1289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124080" y="609588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–4, –2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334120" y="1752480"/>
                <a:ext cx="2057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676680" y="3352680"/>
                <a:ext cx="30290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57200" y="4448160"/>
            <a:ext cx="3200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</a:t>
            </a: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 = -2 into (2’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410080" y="4713120"/>
                <a:ext cx="23623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486400" y="5486400"/>
                <a:ext cx="1219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7467480" y="191916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(2’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1752480"/>
            <a:ext cx="2209680" cy="83844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880" y="1828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Complete the questions on the worksheet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e wish to thank our supporters: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5335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Solving Simultaneous Equations</a:t>
            </a:r>
            <a:endParaRPr b="1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9000" y="2209320"/>
            <a:ext cx="5029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To solve simultaneous equations you need to have the same number of equations as you have unknowns.</a:t>
            </a:r>
            <a:endParaRPr b="0" lang="en-US" sz="26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We will consider cases where we have two equations and two unknowns</a:t>
            </a:r>
            <a:endParaRPr b="0" lang="en-US" sz="26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Elimination Method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1600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est used when  you have equations in the form: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11320" y="2514600"/>
                <a:ext cx="38102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868480" y="3440160"/>
                <a:ext cx="40928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2133720" y="4724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abel the equations (1) and 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3581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724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1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272120" y="685800"/>
                <a:ext cx="3321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343400" y="1376280"/>
                <a:ext cx="34290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28600" y="457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hich variable has the same coefficient?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1066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089080"/>
            <a:ext cx="4191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s the sign of </a:t>
            </a:r>
            <a:r>
              <a:rPr b="1" i="1" lang="en-US" sz="26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am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we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subtract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equation (2) from equation (1)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13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2176560"/>
            <a:ext cx="38862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690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3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392720" y="2209680"/>
                <a:ext cx="34560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187960" y="2971800"/>
                <a:ext cx="26607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791320" y="3570120"/>
                <a:ext cx="1841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76320" y="3214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6576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 is eliminated, solv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4129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5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4572000"/>
            <a:ext cx="41911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the valu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into equation (1) and solv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748040" y="4392720"/>
                <a:ext cx="29480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3600" y="5105520"/>
                <a:ext cx="1447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733920" y="58672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1, 2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2286000"/>
            <a:ext cx="365760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5791320"/>
            <a:ext cx="1066680" cy="68580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 Narrow"/>
              </a:rPr>
              <a:t>What does the solution mean ?</a:t>
            </a:r>
            <a:endParaRPr b="1" lang="en-US" sz="3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44792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e had two equations and two unknowns, </a:t>
            </a: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and  </a:t>
            </a: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66680" y="2666880"/>
            <a:ext cx="7418520" cy="711360"/>
            <a:chOff x="1066680" y="2666880"/>
            <a:chExt cx="7418520" cy="711360"/>
          </a:xfrm>
        </p:grpSpPr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066680" y="2666880"/>
                  <a:ext cx="281952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5334120" y="2666880"/>
                  <a:ext cx="3151080" cy="6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>
              <a:off x="4114800" y="27176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362320" y="3733920"/>
            <a:ext cx="57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 solution (1, 2) gives the values of </a:t>
            </a: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that will make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sentences true.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Narrow"/>
              </a:rPr>
              <a:t>Another example</a:t>
            </a:r>
            <a:endParaRPr b="1" lang="en-US" sz="3600" spc="-1" strike="noStrike">
              <a:solidFill>
                <a:srgbClr val="660066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47880" y="1219320"/>
                <a:ext cx="4033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48120" y="1981080"/>
                <a:ext cx="40892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932120" y="326556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abel the equations (1) and (2)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70800" y="12841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70800" y="212256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" y="32655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1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431784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hich variable has the same coefficient?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1055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2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143000"/>
            <a:ext cx="4038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s the sign of the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1" i="1" lang="en-US" sz="26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is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w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equation (2) to equation (1)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58200" y="380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58200" y="1157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1828800"/>
            <a:ext cx="38862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85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3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824360" y="1949400"/>
                <a:ext cx="3176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796000" y="2514600"/>
                <a:ext cx="2128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075360" y="3092400"/>
                <a:ext cx="18493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6320" y="2362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819520"/>
            <a:ext cx="441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 is eliminated, solve for </a:t>
            </a:r>
            <a:r>
              <a:rPr b="1" i="1" lang="en-US" sz="2600" spc="-1" strike="noStrike">
                <a:solidFill>
                  <a:srgbClr val="0099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3429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5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809880"/>
            <a:ext cx="41911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the valu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into equation (1) and solv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05400" y="4038480"/>
                <a:ext cx="3114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072120" y="4495680"/>
                <a:ext cx="1776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733920" y="58672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-2, 4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267080" y="457200"/>
                <a:ext cx="33530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72000" y="1143000"/>
                <a:ext cx="3673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248520" y="4925880"/>
                <a:ext cx="13366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572000" y="1943280"/>
            <a:ext cx="365760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2400" y="5867280"/>
            <a:ext cx="1143000" cy="53352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Narrow"/>
              </a:rPr>
              <a:t>A more difficult example</a:t>
            </a:r>
            <a:endParaRPr b="1" lang="en-US" sz="3600" spc="-1" strike="noStrike">
              <a:solidFill>
                <a:srgbClr val="660066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16120" y="1143000"/>
                <a:ext cx="3989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95480" y="1905120"/>
                <a:ext cx="3838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932120" y="2895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abel the equations (1) and (2)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70800" y="12841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70800" y="212256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" y="2895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1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8098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hich variable has the same coefficient?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4343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either</a:t>
            </a:r>
            <a:endParaRPr b="0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3809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2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5105520"/>
            <a:ext cx="66294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e can make </a:t>
            </a:r>
            <a:r>
              <a:rPr b="1" i="1" lang="en-US" sz="34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have the same coefficient if we multiply equation (2) by 2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4419720"/>
            <a:ext cx="281916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11430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s the sign is th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am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w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ubtract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equation (2’) from equation (1)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380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157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’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828800"/>
            <a:ext cx="38862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685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3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410080" y="1905120"/>
                <a:ext cx="2843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95880" y="2514600"/>
                <a:ext cx="17528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320" y="2362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819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 is eliminated, solv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3429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5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3809880"/>
            <a:ext cx="41907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the valu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into equation (2) and solv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272200" y="3886200"/>
                <a:ext cx="2840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715000" y="4343400"/>
                <a:ext cx="24433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3733920" y="58672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-4, 6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553080" y="4800600"/>
                <a:ext cx="1589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341960" y="428760"/>
                <a:ext cx="36846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368960" y="1066680"/>
                <a:ext cx="3733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724280" y="1943280"/>
            <a:ext cx="365760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5791320"/>
            <a:ext cx="99072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03:54:31Z</dcterms:created>
  <dc:creator>Academic PowerPoint</dc:creator>
  <dc:description/>
  <dc:language>en-US</dc:language>
  <cp:lastModifiedBy>Default</cp:lastModifiedBy>
  <dcterms:modified xsi:type="dcterms:W3CDTF">2005-09-08T10:16:26Z</dcterms:modified>
  <cp:revision>63</cp:revision>
  <dc:subject>Mathematics</dc:subject>
  <dc:title>Simultaneous Equations</dc:title>
</cp:coreProperties>
</file>